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2AF-4BD2-46B0-ADD9-23C720F5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D37-5FE5-490C-B234-E840C0DA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8F3-A198-4379-99F7-BA2022AC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141-8BB9-4997-8A1F-703402ED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56B-5B4A-47E4-BE74-642E9E71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FA0-8381-4D6D-A872-EC387581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9D6-F905-4A98-8FEC-AD14A310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471-3DFE-48C6-8177-A6238DD3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E73-5A9D-4AE6-86DE-5C889A4C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E8B-1CFA-424C-B2EF-47665236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66A-AB64-43B4-8ADC-8E215724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834-E513-44B3-8A34-251F1DD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A40D-1C04-49A7-A708-F31CCC8D9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003640" cy="21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نتم الذين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بالمسيح اعتمدتم.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المسيح قد لبستم. هللويا.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بإعتمادك يا ربّ في نهر الأردن ظهر السجود للثالوث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21600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فإنَّ صوتِ الآب كان يشهدُ لكَ مسمّياً إيّاكَ ابناً محبو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والروح بهيئةِ حمامة يؤكّدُ حقيقةَ الكلم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khbar MT"/>
              </a:rPr>
              <a:t>فيا من ظَهَرَ وأنَار العالم أيها المسيحُ الإله، يا ربّ المجدُ لك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3:13:41Z</dcterms:created>
  <dc:creator>Charbel Azar</dc:creator>
  <dc:description/>
  <dc:language>en-US</dc:language>
  <cp:lastModifiedBy>Charbel Azar</cp:lastModifiedBy>
  <dcterms:modified xsi:type="dcterms:W3CDTF">2003-01-05T13:26:49Z</dcterms:modified>
  <cp:revision>5</cp:revision>
  <dc:subject/>
  <dc:title>أنتم الذين بالمسيح اعتمدتم. المسيح قد لبستم. هللويا...</dc:title>
</cp:coreProperties>
</file>